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1D1-8758-4CBE-91B8-0477EFAA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626-F20B-4CB0-A18E-89A5E663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104-DE9F-42D9-ABF6-0347E1EF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19B-7C73-46A7-AB12-C4CA58A3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CC6-9CA7-48E9-848C-E9E36610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9533-B73A-4E74-A83E-7ED8B017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3CA7-63A8-42C8-B2D4-A75473C1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1052-51CE-4FB0-A8A2-CCD416BC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666A-5E7C-4167-BA8A-18349F99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0A59-44BD-44DB-B511-41BE5E94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C02D-4BA2-4E68-B37E-48DFC242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1EE-C82D-4083-AFA0-C0A654D4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6404-47FA-4B99-A58C-C2995A4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5946-C56D-4866-A41F-64D4F819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900B-EE48-4E16-BEDC-EA86FA59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6184-2E93-43D2-B2B3-15106263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BCEC-FA86-4945-A00C-2BBF539E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69B-3755-4A3C-843A-7FF0F526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105-EFBC-4F26-8165-9725923C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82F-AF99-4BCB-BF16-9FA9646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349-2C0D-4B83-A64A-84C37B7A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C2C-BBE5-4FB1-899A-196191B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21E-0264-4AF7-A085-800BF43D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5FC-ED33-42CE-A1C8-D98901B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0374-F291-4A1B-A928-A47EE083C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7DD5-296A-4E39-AA56-B45FAF7627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Monday, October 4, 2010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Work: What are your plans for Fall Br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800"/>
            </a:br>
            <a:r>
              <a:rPr b="0" lang="en-US" sz="3600" spc="-1" strike="noStrike">
                <a:solidFill>
                  <a:srgbClr val="330033"/>
                </a:solidFill>
                <a:latin typeface="Broadway"/>
              </a:rPr>
              <a:t>Wednesday, October 6, 2010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Work:  What is a conditional stat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: Lesson 2.1, 9-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0-06T15:22:52Z</dcterms:modified>
  <cp:revision>50</cp:revision>
  <dc:subject/>
  <dc:title>Slide 1</dc:title>
</cp:coreProperties>
</file>